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699F-A70F-4F37-9921-6501A627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BFD-0B4F-496D-A1D8-BF70166A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76B9-7DAF-4BF4-8AC6-627391F3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037-F927-41C3-BA2B-A0D9B35B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E2AA-D105-4A80-B1DF-711BF7B8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DA4-D622-4771-A4C6-43E89643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B86-33ED-401C-B556-3AB89319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E62-0D0D-45B7-9D88-F96315A6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577A-165A-4424-9A81-FA682A42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9478-1D20-486C-B7BD-3B3F30EC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C62F-95A4-4FDA-AC3F-33061B4C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29E-E510-416A-9850-406E59CA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6C11-97C7-4848-8822-2EDCFAF7A72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920" y="980640"/>
            <a:ext cx="8424720" cy="4824360"/>
          </a:xfrm>
          <a:prstGeom prst="rect">
            <a:avLst/>
          </a:prstGeom>
          <a:solidFill>
            <a:srgbClr val="ffffff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ب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 أساليب التحليل الكمي المستخ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في تحليل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2C01-6FCF-4F05-B3FC-B013C51929FA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تويات التحل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2455920"/>
            <a:ext cx="3581640" cy="8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مشرو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3809880"/>
            <a:ext cx="3581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ستوى الصنا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5157720"/>
            <a:ext cx="42670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ستوى العال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E146-28DB-4396-AE3C-B39C0A035ECE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41600" y="1477800"/>
            <a:ext cx="7660800" cy="1031400"/>
          </a:xfrm>
          <a:prstGeom prst="rect">
            <a:avLst/>
          </a:prstGeom>
          <a:solidFill>
            <a:srgbClr val="e7e5e1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ساليب المستخدم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36560" y="3366720"/>
            <a:ext cx="7585200" cy="216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قارنات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عدلات التغي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 rtl="1">
              <a:lnSpc>
                <a:spcPct val="100000"/>
              </a:lnSpc>
              <a:spcBef>
                <a:spcPts val="60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توسط النس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A42-47B3-4ADD-B82E-739D5F9A0216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203120"/>
            <a:ext cx="7772760" cy="763920"/>
          </a:xfrm>
          <a:prstGeom prst="rect">
            <a:avLst/>
          </a:prstGeom>
          <a:gradFill rotWithShape="0">
            <a:gsLst>
              <a:gs pos="0">
                <a:srgbClr val="e7e5e1"/>
              </a:gs>
              <a:gs pos="50000">
                <a:srgbClr val="ffffcc"/>
              </a:gs>
              <a:gs pos="100000">
                <a:srgbClr val="e7e5e1"/>
              </a:gs>
            </a:gsLst>
            <a:lin ang="5400000"/>
          </a:gra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نزعة المركزية (المتوسطا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492280"/>
            <a:ext cx="7772400" cy="38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توسط  = المجموع/العدد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خاصة على مستوى الصنا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وسيط = عدد المرات +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/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نوال = القيمة الاكثر شيوع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57E-36B6-4961-AF6C-673A6BC25A94}" type="slidenum">
              <a:t>4</a:t>
            </a:fld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11280" y="1699920"/>
            <a:ext cx="7772760" cy="912240"/>
          </a:xfrm>
          <a:prstGeom prst="rect">
            <a:avLst/>
          </a:prstGeom>
          <a:gradFill rotWithShape="0">
            <a:gsLst>
              <a:gs pos="0">
                <a:srgbClr val="c7cfc1"/>
              </a:gs>
              <a:gs pos="50000">
                <a:srgbClr val="ffffff"/>
              </a:gs>
              <a:gs pos="100000">
                <a:srgbClr val="c7cfc1"/>
              </a:gs>
            </a:gsLst>
            <a:lin ang="5400000"/>
          </a:gra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قاييس الاختلاف والتشت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1400" y="3571920"/>
            <a:ext cx="7716960" cy="23781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50000">
                <a:srgbClr val="e7e5e1"/>
              </a:gs>
              <a:gs pos="100000">
                <a:srgbClr val="e6dcac"/>
              </a:gs>
            </a:gsLst>
            <a:lin ang="135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معرفة مدى تجمع قيم النسب المالية أو تشتتها حول المتوسط الحسابي عن طريق حساب الانحراف المعياري لكل نسبة من النس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62485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6143-5474-4F39-BB3A-DAB8855B5DA3}" type="slidenum">
              <a:t>5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d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1058760"/>
            <a:ext cx="77727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لاقات الارتباط والانحد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2920" y="2427120"/>
            <a:ext cx="8893080" cy="40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ارتباط هو التلازم بين متغيرين تلازما كميا بحيث تؤدي الزيادة في أحد المتغيرين الى زيادة المتغير الآخر أو العك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يقاس عن طريق حساب معامل ارتباط بيرسون أو سبيرم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وقربه من الواحد الصحيح يشير الى وجود ارتباط قوي موجب بين المتغيري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641664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بع: الأساليب الكمية المستخدمة في التحليل المال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A62-5CEE-403C-AEED-A005955C1877}" type="slidenum">
              <a:t>6</a:t>
            </a:fld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Abu-Ali</cp:lastModifiedBy>
  <dcterms:modified xsi:type="dcterms:W3CDTF">2004-04-06T17:12:41Z</dcterms:modified>
  <cp:revision>22</cp:revision>
  <dc:subject/>
  <dc:title>التحليل المالي والائتماني</dc:title>
</cp:coreProperties>
</file>